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4.jpeg" ContentType="image/jpeg"/>
  <Override PartName="/ppt/media/image24.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26.jpeg" ContentType="image/jpeg"/>
  <Override PartName="/ppt/media/image5.jpeg" ContentType="image/jpeg"/>
  <Override PartName="/ppt/media/image6.png" ContentType="image/png"/>
  <Override PartName="/ppt/media/image28.png" ContentType="image/png"/>
  <Override PartName="/ppt/media/image7.jpeg" ContentType="image/jpeg"/>
  <Override PartName="/ppt/media/image13.jpeg" ContentType="image/jpeg"/>
  <Override PartName="/ppt/media/image11.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B234-EE74-4905-ACF9-C0DB0BFFD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F697D-4BCA-4E54-A160-B8ADB911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1C3E7-C978-4931-B749-61C56B3C1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862C6-5FD6-455F-AB76-BB7CC8DFC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B569F-6977-41EB-8D14-389A12797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00334-A785-413A-9EA8-F4CFB7B75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A8A55-CEB5-4EDA-AD6F-76F238E3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FE8EC-8210-4FCD-892F-898A67233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CE3B8-F23C-4251-A44B-9BAE5A66C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27B1D-A726-46F0-BECA-BDDDFBB5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30B57-8CC0-43E6-BED1-18C406012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E98AC-AF5A-41DE-AA8D-1AFC27C8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0085-6A27-4CA5-94C2-F648D5AB8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8641-E79B-4C93-8102-F5E0AC74B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70746-B51F-431C-B9C1-567773B9C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BC19E-9911-4561-96BD-E47D16FC2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5AC6C-6F8D-4602-BBD5-1CD05F970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0943-9854-4F39-B8BC-3BAA12DB7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6A32-D486-400E-9DFD-6184CAC4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5DA2-A865-4623-9401-D0C5E821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6974-3BD5-4659-83B5-0DD3493F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42C9-2175-4997-A886-8B3F144EF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011A-71E9-4584-8417-BEE563CC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6615-A99F-4B8E-8699-35E3A9C1C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0D6E-17E7-42D0-929E-5D0FE5D137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C:\WINNT\Profiles\rebeccal\Personal\pics\strtegic1.jpg"/>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1ABB-C950-43C9-BB6E-04AE5F1A1F3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Arial"/>
              </a:rPr>
              <a:t>Native peoples of North America</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Arial"/>
              </a:rPr>
              <a:t>Culture and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114800" y="0"/>
            <a:ext cx="32767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the Anasazi, the Hopi grew corn, beans, and squash. But the Hopi Indians depended on the rain to make their crops grow. If their plants did not grow, the Hopi might starve. The Hopi also planted cotton and tamed wild turkeys. Hopi women also made beuatiful baskets, clay bowls, and jewelry. The men hunted, farmed, and wove cloth for blankets, clothing and belt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Picture 6" descr="C:\Documents and Settings\Administrator\My Documents\My Pictures\Native Amer ppt\day2\corn1.gif"/>
          <p:cNvPicPr/>
          <p:nvPr/>
        </p:nvPicPr>
        <p:blipFill>
          <a:blip r:embed="rId1"/>
          <a:stretch/>
        </p:blipFill>
        <p:spPr>
          <a:xfrm>
            <a:off x="1295280" y="0"/>
            <a:ext cx="3105360" cy="3962520"/>
          </a:xfrm>
          <a:prstGeom prst="rect">
            <a:avLst/>
          </a:prstGeom>
          <a:ln w="0">
            <a:noFill/>
          </a:ln>
        </p:spPr>
      </p:pic>
      <p:pic>
        <p:nvPicPr>
          <p:cNvPr id="114" name="Picture 7" descr="C:\Documents and Settings\Administrator\My Documents\My Pictures\Native Amer ppt\day2\b2but.jpg"/>
          <p:cNvPicPr/>
          <p:nvPr/>
        </p:nvPicPr>
        <p:blipFill>
          <a:blip r:embed="rId2"/>
          <a:stretch/>
        </p:blipFill>
        <p:spPr>
          <a:xfrm>
            <a:off x="1523880" y="4191120"/>
            <a:ext cx="1703520" cy="1450800"/>
          </a:xfrm>
          <a:prstGeom prst="rect">
            <a:avLst/>
          </a:prstGeom>
          <a:ln w="0">
            <a:noFill/>
          </a:ln>
        </p:spPr>
      </p:pic>
      <p:pic>
        <p:nvPicPr>
          <p:cNvPr id="115" name="Picture 8" descr="C:\Documents and Settings\Administrator\My Documents\My Pictures\Native Amer ppt\day2\hopipo1.jpg"/>
          <p:cNvPicPr/>
          <p:nvPr/>
        </p:nvPicPr>
        <p:blipFill>
          <a:blip r:embed="rId3"/>
          <a:stretch/>
        </p:blipFill>
        <p:spPr>
          <a:xfrm>
            <a:off x="2819520" y="5334120"/>
            <a:ext cx="1523880" cy="1068120"/>
          </a:xfrm>
          <a:prstGeom prst="rect">
            <a:avLst/>
          </a:prstGeom>
          <a:ln w="0">
            <a:noFill/>
          </a:ln>
        </p:spPr>
      </p:pic>
      <p:pic>
        <p:nvPicPr>
          <p:cNvPr id="116" name="Picture 10" descr="C:\Documents and Settings\Administrator\My Documents\My Pictures\Native Amer ppt\day2\hopiwoman.gif"/>
          <p:cNvPicPr/>
          <p:nvPr/>
        </p:nvPicPr>
        <p:blipFill>
          <a:blip r:embed="rId4"/>
          <a:stretch/>
        </p:blipFill>
        <p:spPr>
          <a:xfrm>
            <a:off x="7407360" y="0"/>
            <a:ext cx="1736640" cy="498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3760" y="228240"/>
            <a:ext cx="380988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Navajo and Apache</a:t>
            </a:r>
            <a:endParaRPr b="0" lang="en-US" sz="3200" spc="-1" strike="noStrike">
              <a:solidFill>
                <a:srgbClr val="996600"/>
              </a:solidFill>
              <a:latin typeface="Times New Roman"/>
            </a:endParaRPr>
          </a:p>
        </p:txBody>
      </p:sp>
      <p:sp>
        <p:nvSpPr>
          <p:cNvPr id="118" name="PlaceHolder 2"/>
          <p:cNvSpPr>
            <a:spLocks noGrp="1"/>
          </p:cNvSpPr>
          <p:nvPr>
            <p:ph/>
          </p:nvPr>
        </p:nvSpPr>
        <p:spPr>
          <a:xfrm>
            <a:off x="990360" y="0"/>
            <a:ext cx="4343400" cy="647712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and the Navajo came from the Far North to settle the Plains and Southwest around A.D. 850.</a:t>
            </a:r>
            <a:br>
              <a:rPr sz="2000"/>
            </a:br>
            <a:r>
              <a:rPr b="0" lang="en-US" sz="2000" spc="-1" strike="noStrike">
                <a:solidFill>
                  <a:srgbClr val="000000"/>
                </a:solidFill>
                <a:latin typeface="Arial"/>
              </a:rPr>
              <a:t>The Navajo share the Athabscan language with the Apache.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lived near Pueblo tribes, which they raided for food, and livestock. They dressed in animal skins, used dogs as pack animals, and pitched tentlike dwellings made of brush or hide, called wikiup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ajo copied corn- and bean-growing practices from the Anasazi and raised sheep while some kept the nomadic lifestyle of their ancestors and the Apache and pursued the buffalo and other anima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9" descr="C:\Documents and Settings\Administrator\My Documents\My Pictures\Native Amer ppt\day2\navacul2.jpg"/>
          <p:cNvPicPr/>
          <p:nvPr/>
        </p:nvPicPr>
        <p:blipFill>
          <a:blip r:embed="rId1"/>
          <a:stretch/>
        </p:blipFill>
        <p:spPr>
          <a:xfrm>
            <a:off x="5486400" y="990720"/>
            <a:ext cx="3505320" cy="2214360"/>
          </a:xfrm>
          <a:prstGeom prst="rect">
            <a:avLst/>
          </a:prstGeom>
          <a:ln w="0">
            <a:noFill/>
          </a:ln>
        </p:spPr>
      </p:pic>
      <p:pic>
        <p:nvPicPr>
          <p:cNvPr id="120" name="Picture 10" descr="C:\Documents and Settings\Administrator\My Documents\My Pictures\Native Amer ppt\day2\wikiup.jpg"/>
          <p:cNvPicPr/>
          <p:nvPr/>
        </p:nvPicPr>
        <p:blipFill>
          <a:blip r:embed="rId2"/>
          <a:stretch/>
        </p:blipFill>
        <p:spPr>
          <a:xfrm>
            <a:off x="5486400" y="3962520"/>
            <a:ext cx="3009960" cy="194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228600"/>
            <a:ext cx="35816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he Great Plains</a:t>
            </a:r>
            <a:endParaRPr b="0" lang="en-US" sz="3600" spc="-1" strike="noStrike">
              <a:solidFill>
                <a:srgbClr val="996600"/>
              </a:solidFill>
              <a:latin typeface="Times New Roman"/>
            </a:endParaRPr>
          </a:p>
        </p:txBody>
      </p:sp>
      <p:sp>
        <p:nvSpPr>
          <p:cNvPr id="122" name="PlaceHolder 2"/>
          <p:cNvSpPr>
            <a:spLocks noGrp="1"/>
          </p:cNvSpPr>
          <p:nvPr>
            <p:ph/>
          </p:nvPr>
        </p:nvSpPr>
        <p:spPr>
          <a:xfrm>
            <a:off x="5028840" y="228600"/>
            <a:ext cx="39625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ulture group of Indians is well-known for the importance of the buffalo, their religious ceremonies, and the use of the tepee. Four important tribes in this culture include the Dakota, Cheyenne, Sioux, and Comanche.</a:t>
            </a:r>
            <a:br>
              <a:rPr sz="2000"/>
            </a:br>
            <a:r>
              <a:rPr b="1" lang="en-US" sz="2000" spc="-1" strike="noStrike">
                <a:solidFill>
                  <a:srgbClr val="000000"/>
                </a:solidFill>
                <a:latin typeface="Arial"/>
              </a:rPr>
              <a:t>The buffalo was the most important natural resource of the Plains Indians. The Plains Indians were hunters. They hunted many kinds of animals, but it was the buffalo which provided them with all of their basic needs: food, clothing, and shelter.</a:t>
            </a:r>
            <a:endParaRPr b="0" lang="en-US" sz="2000" spc="-1" strike="noStrike">
              <a:solidFill>
                <a:srgbClr val="000000"/>
              </a:solidFill>
              <a:latin typeface="Times New Roman"/>
            </a:endParaRPr>
          </a:p>
        </p:txBody>
      </p:sp>
      <p:pic>
        <p:nvPicPr>
          <p:cNvPr id="123" name="Picture 6" descr="C:\Documents and Settings\Administrator\My Documents\My Pictures\Native Amer ppt\day2\Skin1.jpg"/>
          <p:cNvPicPr/>
          <p:nvPr/>
        </p:nvPicPr>
        <p:blipFill>
          <a:blip r:embed="rId1"/>
          <a:stretch/>
        </p:blipFill>
        <p:spPr>
          <a:xfrm>
            <a:off x="1295280" y="1143000"/>
            <a:ext cx="3733920" cy="3106800"/>
          </a:xfrm>
          <a:prstGeom prst="rect">
            <a:avLst/>
          </a:prstGeom>
          <a:ln w="0">
            <a:noFill/>
          </a:ln>
        </p:spPr>
      </p:pic>
      <p:pic>
        <p:nvPicPr>
          <p:cNvPr id="124" name="Picture 7" descr="C:\Documents and Settings\Administrator\My Documents\My Pictures\Native Amer ppt\day2\newbuff.jpg"/>
          <p:cNvPicPr/>
          <p:nvPr/>
        </p:nvPicPr>
        <p:blipFill>
          <a:blip r:embed="rId2"/>
          <a:stretch/>
        </p:blipFill>
        <p:spPr>
          <a:xfrm>
            <a:off x="2133720" y="3962520"/>
            <a:ext cx="1920600" cy="26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371600" y="228600"/>
            <a:ext cx="3733920" cy="640080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se, first introduced by the Spanish of the Southwest, appeared in the Plains about the beginning of the 18th cent. and revolutionized the life of the Plains Indians. Many Native Americans left their villages and joined the nomads. Mounted and armed with bow and arrow, they ranged the grasslands hunting buffal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6" descr="C:\Documents and Settings\Administrator\My Documents\My Pictures\Native Amer ppt\day2\tipi1.jpg"/>
          <p:cNvPicPr/>
          <p:nvPr/>
        </p:nvPicPr>
        <p:blipFill>
          <a:blip r:embed="rId1"/>
          <a:stretch/>
        </p:blipFill>
        <p:spPr>
          <a:xfrm>
            <a:off x="5533920" y="22860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3760" y="151920"/>
            <a:ext cx="3429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Eastern Woodlands</a:t>
            </a:r>
            <a:endParaRPr b="0" lang="en-US" sz="3200" spc="-1" strike="noStrike">
              <a:solidFill>
                <a:srgbClr val="996600"/>
              </a:solidFill>
              <a:latin typeface="Times New Roman"/>
            </a:endParaRPr>
          </a:p>
        </p:txBody>
      </p:sp>
      <p:sp>
        <p:nvSpPr>
          <p:cNvPr id="128" name="PlaceHolder 2"/>
          <p:cNvSpPr>
            <a:spLocks noGrp="1"/>
          </p:cNvSpPr>
          <p:nvPr>
            <p:ph/>
          </p:nvPr>
        </p:nvSpPr>
        <p:spPr>
          <a:xfrm>
            <a:off x="1066320" y="152280"/>
            <a:ext cx="403884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food, shelter, clothing, weapons, and tools came from the forests around them. They lived in villages near a lake or stream. The Woodland Indians lived in wigwams and longhouses. The Iroquois, Cherokee, and Mound Builders were important Woodland trib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roquois Indians were actually a "nation" of Indians made up of 5 tribes. These tribes were the Senecas, Onondagas, Oneidas, and Mohawks. These tribes were </a:t>
            </a:r>
            <a:r>
              <a:rPr b="1" lang="en-US" sz="2000" spc="-1" strike="noStrike" u="sng">
                <a:solidFill>
                  <a:srgbClr val="000000"/>
                </a:solidFill>
                <a:uFillTx/>
                <a:latin typeface="Arial"/>
              </a:rPr>
              <a:t>hostile</a:t>
            </a:r>
            <a:r>
              <a:rPr b="1" lang="en-US" sz="2000" spc="-1" strike="noStrike">
                <a:solidFill>
                  <a:srgbClr val="000000"/>
                </a:solidFill>
                <a:latin typeface="Arial"/>
              </a:rPr>
              <a:t>, or war-like, to each other until they joined together to become the "League of the Five N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6" descr="C:\Documents and Settings\Administrator\My Documents\My Pictures\Native Amer ppt\day2\Wigw1.jpg"/>
          <p:cNvPicPr/>
          <p:nvPr/>
        </p:nvPicPr>
        <p:blipFill>
          <a:blip r:embed="rId1"/>
          <a:stretch/>
        </p:blipFill>
        <p:spPr>
          <a:xfrm>
            <a:off x="5715000" y="838080"/>
            <a:ext cx="3048120" cy="2683080"/>
          </a:xfrm>
          <a:prstGeom prst="rect">
            <a:avLst/>
          </a:prstGeom>
          <a:ln w="0">
            <a:noFill/>
          </a:ln>
        </p:spPr>
      </p:pic>
      <p:pic>
        <p:nvPicPr>
          <p:cNvPr id="130" name="Picture 7" descr="C:\Documents and Settings\Administrator\My Documents\My Pictures\Native Amer ppt\day2\house4.jpg"/>
          <p:cNvPicPr/>
          <p:nvPr/>
        </p:nvPicPr>
        <p:blipFill>
          <a:blip r:embed="rId2"/>
          <a:stretch/>
        </p:blipFill>
        <p:spPr>
          <a:xfrm>
            <a:off x="5334120" y="3733920"/>
            <a:ext cx="3504960" cy="257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105520" y="228600"/>
            <a:ext cx="403848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of each Iroquois Nation also came together to discuss matters that were important to all of them, such as peace,  trade, or war.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uncil leaders ( always men, but chosen by the women)  were called sachems.  The Iroquois had a total of 50 sachems.  All sachems had to agree on a solution before any decision was mad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Picture 6" descr="C:\Documents and Settings\Administrator\My Documents\My Pictures\Native Amer ppt\day2\Deerma3.jpg"/>
          <p:cNvPicPr/>
          <p:nvPr/>
        </p:nvPicPr>
        <p:blipFill>
          <a:blip r:embed="rId1"/>
          <a:stretch/>
        </p:blipFill>
        <p:spPr>
          <a:xfrm>
            <a:off x="1371600" y="598320"/>
            <a:ext cx="3733920" cy="383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60"/>
            <a:ext cx="754380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Vocabulary</a:t>
            </a:r>
            <a:endParaRPr b="0" lang="en-US" sz="4400" spc="-1" strike="noStrike">
              <a:solidFill>
                <a:srgbClr val="996600"/>
              </a:solidFill>
              <a:latin typeface="Times New Roman"/>
            </a:endParaRPr>
          </a:p>
        </p:txBody>
      </p:sp>
      <p:sp>
        <p:nvSpPr>
          <p:cNvPr id="134" name="PlaceHolder 2"/>
          <p:cNvSpPr>
            <a:spLocks noGrp="1"/>
          </p:cNvSpPr>
          <p:nvPr>
            <p:ph/>
          </p:nvPr>
        </p:nvSpPr>
        <p:spPr>
          <a:xfrm>
            <a:off x="1371240" y="762120"/>
            <a:ext cx="7620120" cy="58672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ravois – </a:t>
            </a:r>
            <a:r>
              <a:rPr b="0" lang="en-US" sz="2000" spc="-1" strike="noStrike">
                <a:solidFill>
                  <a:srgbClr val="000000"/>
                </a:solidFill>
                <a:latin typeface="Arial"/>
              </a:rPr>
              <a:t>a simple vehicle used by Plains Indians consisting of two trailing poles serving as shafts and bearing a platform or net for the load</a:t>
            </a:r>
            <a:r>
              <a:rPr b="0" lang="en-US" sz="2000" spc="-1" strike="noStrike" u="sng">
                <a:solidFill>
                  <a:srgbClr val="000000"/>
                </a:solidFill>
                <a:uFillTx/>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latch – </a:t>
            </a:r>
            <a:r>
              <a:rPr b="0" lang="en-US" sz="2000" spc="-1" strike="noStrike">
                <a:solidFill>
                  <a:srgbClr val="000000"/>
                </a:solidFill>
                <a:latin typeface="Arial"/>
              </a:rPr>
              <a:t>a ceremonial feast of the American Indians of the northwest coast marked by the host's lavish distribution of gift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iva – </a:t>
            </a:r>
            <a:r>
              <a:rPr b="0" lang="en-US" sz="2000" spc="-1" strike="noStrike">
                <a:solidFill>
                  <a:srgbClr val="000000"/>
                </a:solidFill>
                <a:latin typeface="Arial"/>
              </a:rPr>
              <a:t>a Pueblo Indian ceremonial structure that is usually round and partly undergroun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lture area – </a:t>
            </a:r>
            <a:r>
              <a:rPr b="0" lang="en-US" sz="2000" spc="-1" strike="noStrike">
                <a:solidFill>
                  <a:srgbClr val="000000"/>
                </a:solidFill>
                <a:latin typeface="Arial"/>
              </a:rPr>
              <a:t>a region where people share a similar way of lif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yak – </a:t>
            </a:r>
            <a:r>
              <a:rPr b="0" lang="en-US" sz="2000" spc="-1" strike="noStrike">
                <a:solidFill>
                  <a:srgbClr val="000000"/>
                </a:solidFill>
                <a:latin typeface="Arial"/>
              </a:rPr>
              <a:t>an Eskimo canoe made of a frame covered with skins except for a small opening in the center and propelled by a double-bladed paddl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gan –  </a:t>
            </a:r>
            <a:r>
              <a:rPr b="0" lang="en-US" sz="2000" spc="-1" strike="noStrike">
                <a:solidFill>
                  <a:srgbClr val="000000"/>
                </a:solidFill>
                <a:latin typeface="Arial"/>
              </a:rPr>
              <a:t>a Navajo Indian dwelling usually made of logs and mud with a door traditionally facing eas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sisters - </a:t>
            </a:r>
            <a:r>
              <a:rPr b="0" lang="en-US" sz="2000" spc="-1" strike="noStrike">
                <a:solidFill>
                  <a:srgbClr val="000000"/>
                </a:solidFill>
                <a:latin typeface="Arial"/>
              </a:rPr>
              <a:t>corn and beans and squash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nghouse</a:t>
            </a:r>
            <a:r>
              <a:rPr b="0" lang="en-US" sz="2000" spc="-1" strike="noStrike">
                <a:solidFill>
                  <a:srgbClr val="000000"/>
                </a:solidFill>
                <a:latin typeface="Arial"/>
              </a:rPr>
              <a:t> - a long communal dwelling of some No. American Indians (as the Iroquois)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pee - a conical tent usually consisting of skins and used especially by American Indians of the Plai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5" name="Picture 4" descr="C:\Documents and Settings\Administrator\My Documents\My Pictures\Native Amer ppt\day2\hogan.gif"/>
          <p:cNvPicPr/>
          <p:nvPr/>
        </p:nvPicPr>
        <p:blipFill>
          <a:blip r:embed="rId1"/>
          <a:stretch/>
        </p:blipFill>
        <p:spPr>
          <a:xfrm>
            <a:off x="228600" y="3962520"/>
            <a:ext cx="1219320" cy="993600"/>
          </a:xfrm>
          <a:prstGeom prst="rect">
            <a:avLst/>
          </a:prstGeom>
          <a:ln w="0">
            <a:noFill/>
          </a:ln>
        </p:spPr>
      </p:pic>
      <p:pic>
        <p:nvPicPr>
          <p:cNvPr id="136" name="Picture 5" descr="C:\Documents and Settings\Administrator\My Documents\My Pictures\Native Amer ppt\day2\travois.gif"/>
          <p:cNvPicPr/>
          <p:nvPr/>
        </p:nvPicPr>
        <p:blipFill>
          <a:blip r:embed="rId2"/>
          <a:stretch/>
        </p:blipFill>
        <p:spPr>
          <a:xfrm>
            <a:off x="1295280" y="0"/>
            <a:ext cx="1752840" cy="804960"/>
          </a:xfrm>
          <a:prstGeom prst="rect">
            <a:avLst/>
          </a:prstGeom>
          <a:ln w="0">
            <a:noFill/>
          </a:ln>
        </p:spPr>
      </p:pic>
      <p:pic>
        <p:nvPicPr>
          <p:cNvPr id="137" name="Picture 6" descr="C:\Documents and Settings\Administrator\My Documents\My Pictures\Native Amer ppt\day2\tepee.gif"/>
          <p:cNvPicPr/>
          <p:nvPr/>
        </p:nvPicPr>
        <p:blipFill>
          <a:blip r:embed="rId3"/>
          <a:stretch/>
        </p:blipFill>
        <p:spPr>
          <a:xfrm>
            <a:off x="228600" y="5261040"/>
            <a:ext cx="1112760" cy="159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0"/>
            <a:ext cx="36576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Arctic/Subarctic Peoples</a:t>
            </a:r>
            <a:endParaRPr b="0" lang="en-US" sz="4000" spc="-1" strike="noStrike">
              <a:solidFill>
                <a:srgbClr val="996600"/>
              </a:solidFill>
              <a:latin typeface="Times New Roman"/>
            </a:endParaRPr>
          </a:p>
        </p:txBody>
      </p:sp>
      <p:sp>
        <p:nvSpPr>
          <p:cNvPr id="86" name="PlaceHolder 2"/>
          <p:cNvSpPr>
            <a:spLocks noGrp="1"/>
          </p:cNvSpPr>
          <p:nvPr>
            <p:ph/>
          </p:nvPr>
        </p:nvSpPr>
        <p:spPr>
          <a:xfrm>
            <a:off x="4647960" y="228600"/>
            <a:ext cx="3809880" cy="63244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it living in the arctic region are the direct descendants of a prehistoric hunting society that spread across Canada from Alaska and centered on capturing massive bowhead whales. This culture, called Thule by archaeologists, quickly adapted to the harsh conditions found in the arctic. Not only were whales, seals, fish and caribou abundant, but also large forests were found in coastal areas. Wood was a rare resource in remote arctic areas and needed for making tools, boat frames and numerous other articles, as well as used as fuel for cookin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6" descr="C:\Documents and Settings\Administrator\My Documents\My Pictures\Native Amer ppt\day2\arrows.jpg"/>
          <p:cNvPicPr/>
          <p:nvPr/>
        </p:nvPicPr>
        <p:blipFill>
          <a:blip r:embed="rId1"/>
          <a:stretch/>
        </p:blipFill>
        <p:spPr>
          <a:xfrm>
            <a:off x="2003400" y="1981080"/>
            <a:ext cx="24717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371600" y="228600"/>
            <a:ext cx="3733920" cy="63244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unted game in all seasons of the year for food and material to craft articles needed for everyday life. They travelled in one person kayaks and larger umiaks framed with wood and covered by seal skins; wore clothing made from the pelts of seals in summer and caribou in winter; lived in skin tents during mild seasons; and settled during winter either in earthen huts banked by sods with a roof supported by whale ribs and shoulder blades, or in snow houses called igloos, ingeniously shaped from blocks of hard snow.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Picture 6" descr="C:\Documents and Settings\Administrator\My Documents\My Pictures\Native Amer ppt\day2\engraving of Inuit.jpg"/>
          <p:cNvPicPr/>
          <p:nvPr/>
        </p:nvPicPr>
        <p:blipFill>
          <a:blip r:embed="rId1"/>
          <a:stretch/>
        </p:blipFill>
        <p:spPr>
          <a:xfrm>
            <a:off x="5283360" y="304920"/>
            <a:ext cx="3530520" cy="4114800"/>
          </a:xfrm>
          <a:prstGeom prst="rect">
            <a:avLst/>
          </a:prstGeom>
          <a:ln w="0">
            <a:noFill/>
          </a:ln>
        </p:spPr>
      </p:pic>
      <p:pic>
        <p:nvPicPr>
          <p:cNvPr id="90" name="Picture 8" descr="C:\Documents and Settings\Administrator\My Documents\My Pictures\Native Amer ppt\day2\igloovillage.jpg"/>
          <p:cNvPicPr/>
          <p:nvPr/>
        </p:nvPicPr>
        <p:blipFill>
          <a:blip r:embed="rId2"/>
          <a:stretch/>
        </p:blipFill>
        <p:spPr>
          <a:xfrm>
            <a:off x="5334120" y="4114800"/>
            <a:ext cx="3429000" cy="20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228600"/>
            <a:ext cx="3657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orthwest</a:t>
            </a:r>
            <a:endParaRPr b="0" lang="en-US" sz="4400" spc="-1" strike="noStrike">
              <a:solidFill>
                <a:srgbClr val="996600"/>
              </a:solidFill>
              <a:latin typeface="Times New Roman"/>
            </a:endParaRPr>
          </a:p>
        </p:txBody>
      </p:sp>
      <p:sp>
        <p:nvSpPr>
          <p:cNvPr id="92" name="PlaceHolder 2"/>
          <p:cNvSpPr>
            <a:spLocks noGrp="1"/>
          </p:cNvSpPr>
          <p:nvPr>
            <p:ph/>
          </p:nvPr>
        </p:nvSpPr>
        <p:spPr>
          <a:xfrm>
            <a:off x="5257800" y="228600"/>
            <a:ext cx="3733920" cy="640080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west Coast area extended along the Pacific coast from S Alaska to N California.</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ckly wooded, with a temperate climate and heavy rainfall, the area had long supported a large Native American population. Food sources are salmon, supplemented by sea mammals (seals and sea lions) and land mammals (deer, elk, and bears) as well as berries and other wild fruit. They used wood to build their houses and had cedar-planked canoes and carved dugouts. </a:t>
            </a:r>
            <a:endParaRPr b="0" lang="en-US" sz="2000" spc="-1" strike="noStrike">
              <a:solidFill>
                <a:srgbClr val="000000"/>
              </a:solidFill>
              <a:latin typeface="Times New Roman"/>
            </a:endParaRPr>
          </a:p>
        </p:txBody>
      </p:sp>
      <p:pic>
        <p:nvPicPr>
          <p:cNvPr id="93" name="Picture 7" descr="map of northwest culture area"/>
          <p:cNvPicPr/>
          <p:nvPr/>
        </p:nvPicPr>
        <p:blipFill>
          <a:blip r:embed="rId1"/>
          <a:stretch/>
        </p:blipFill>
        <p:spPr>
          <a:xfrm>
            <a:off x="1676520" y="1066680"/>
            <a:ext cx="352728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066680" y="152280"/>
            <a:ext cx="4648320" cy="65534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ir permanent winter villages some of the groups had totem poles which were elaborately carved and covered with symbolic animal decoration. They also made ceremonial items, such as rattles and masks; weaving; and basketry. Their society included chiefs, nobles, commoners, and slaves. They had woven robes, furs, and basket hats as well as wooden armor and helmets for battle. </a:t>
            </a:r>
            <a:r>
              <a:rPr b="0" lang="en-US" sz="2000" spc="-1" strike="noStrike">
                <a:solidFill>
                  <a:srgbClr val="800000"/>
                </a:solidFill>
                <a:latin typeface="Arial"/>
              </a:rPr>
              <a:t>P</a:t>
            </a:r>
            <a:r>
              <a:rPr b="0" lang="en-US" sz="2000" spc="-1" strike="noStrike">
                <a:solidFill>
                  <a:srgbClr val="000000"/>
                </a:solidFill>
                <a:latin typeface="Arial"/>
              </a:rPr>
              <a:t>otlatches were social occasions given by a host to establish or uphold his status position in society. Often they were held to mark a significant event in his family, such as the birth of a child, a daughter's coming of age, or a son's marriage. </a:t>
            </a:r>
            <a:endParaRPr b="0" lang="en-US" sz="2000" spc="-1" strike="noStrike">
              <a:solidFill>
                <a:srgbClr val="000000"/>
              </a:solidFill>
              <a:latin typeface="Times New Roman"/>
            </a:endParaRPr>
          </a:p>
        </p:txBody>
      </p:sp>
      <p:pic>
        <p:nvPicPr>
          <p:cNvPr id="95" name="Picture 6" descr="C:\Documents and Settings\Administrator\My Documents\My Pictures\Native Amer ppt\day2\potlatchpole.jpg"/>
          <p:cNvPicPr/>
          <p:nvPr/>
        </p:nvPicPr>
        <p:blipFill>
          <a:blip r:embed="rId1"/>
          <a:stretch/>
        </p:blipFill>
        <p:spPr>
          <a:xfrm>
            <a:off x="5784840" y="228600"/>
            <a:ext cx="2678040" cy="4114800"/>
          </a:xfrm>
          <a:prstGeom prst="rect">
            <a:avLst/>
          </a:prstGeom>
          <a:ln w="0">
            <a:noFill/>
          </a:ln>
        </p:spPr>
      </p:pic>
      <p:pic>
        <p:nvPicPr>
          <p:cNvPr id="96" name="Picture 7" descr="C:\Documents and Settings\Administrator\My Documents\My Pictures\Native Amer ppt\day2\Lodge1.jpg"/>
          <p:cNvPicPr/>
          <p:nvPr/>
        </p:nvPicPr>
        <p:blipFill>
          <a:blip r:embed="rId2"/>
          <a:stretch/>
        </p:blipFill>
        <p:spPr>
          <a:xfrm>
            <a:off x="5638680" y="4343400"/>
            <a:ext cx="2971800" cy="1973160"/>
          </a:xfrm>
          <a:prstGeom prst="rect">
            <a:avLst/>
          </a:prstGeom>
          <a:ln w="0">
            <a:noFill/>
          </a:ln>
        </p:spPr>
      </p:pic>
      <p:pic>
        <p:nvPicPr>
          <p:cNvPr id="97" name="Picture 8" descr="C:\Documents and Settings\Administrator\My Documents\My Pictures\Native Amer ppt\day2\plankhouse.gif"/>
          <p:cNvPicPr/>
          <p:nvPr/>
        </p:nvPicPr>
        <p:blipFill>
          <a:blip r:embed="rId3"/>
          <a:stretch/>
        </p:blipFill>
        <p:spPr>
          <a:xfrm>
            <a:off x="7162920" y="5562720"/>
            <a:ext cx="1714320" cy="100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952520" y="304920"/>
            <a:ext cx="4038840" cy="579096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these Indians lived in a desert-like environment, food was hard to find. This meant they had to constantly move in order to find food. Because of this, their homes were temporary structures. Willow branches were leaned together with bundles of twigs, branches, and reeds to cover them.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1523880" y="3049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 Basin</a:t>
            </a:r>
            <a:endParaRPr b="0" lang="en-US" sz="3200" spc="-1" strike="noStrike">
              <a:solidFill>
                <a:srgbClr val="000000"/>
              </a:solidFill>
              <a:latin typeface="Times New Roman"/>
            </a:endParaRPr>
          </a:p>
        </p:txBody>
      </p:sp>
      <p:pic>
        <p:nvPicPr>
          <p:cNvPr id="100" name="Picture 7" descr="C:\Documents and Settings\Administrator\My Documents\My Pictures\Native Amer ppt\day2\winter.jpg"/>
          <p:cNvPicPr/>
          <p:nvPr/>
        </p:nvPicPr>
        <p:blipFill>
          <a:blip r:embed="rId1"/>
          <a:stretch/>
        </p:blipFill>
        <p:spPr>
          <a:xfrm>
            <a:off x="1219320" y="1447920"/>
            <a:ext cx="39337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5880" y="151920"/>
            <a:ext cx="2819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teau</a:t>
            </a: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52280"/>
            <a:ext cx="434340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acorn bread, made by pounding acorns into meal and then leaching it with hot water, was distinctive, and they cooked in baskets filled with water and heated by hot stones. Living in brush shelters or more substantial lean-tos, they had partly buried earth lodges for ceremonies and ritual sweat baths. Basketry, coiled and twined, was highly develope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underwent a great cultural change when they obtained from the Plains Indians the horse, the tepee, a form of the sun dance, and deerskin clothes. They continued, however, to fish for salmon with nets and spears and to gather camas bulbs. </a:t>
            </a:r>
            <a:endParaRPr b="0" lang="en-US" sz="2000" spc="-1" strike="noStrike">
              <a:solidFill>
                <a:srgbClr val="000000"/>
              </a:solidFill>
              <a:latin typeface="Times New Roman"/>
            </a:endParaRPr>
          </a:p>
        </p:txBody>
      </p:sp>
      <p:pic>
        <p:nvPicPr>
          <p:cNvPr id="103" name="Picture 6" descr="C:\Documents and Settings\Administrator\My Documents\My Pictures\Native Amer ppt\day2\nezperce.jpg"/>
          <p:cNvPicPr/>
          <p:nvPr/>
        </p:nvPicPr>
        <p:blipFill>
          <a:blip r:embed="rId1"/>
          <a:stretch/>
        </p:blipFill>
        <p:spPr>
          <a:xfrm>
            <a:off x="5943600" y="1447920"/>
            <a:ext cx="2743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3505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Californian Native Americans</a:t>
            </a:r>
            <a:endParaRPr b="0" lang="en-US" sz="3200" spc="-1" strike="noStrike">
              <a:solidFill>
                <a:srgbClr val="996600"/>
              </a:solidFill>
              <a:latin typeface="Times New Roman"/>
            </a:endParaRPr>
          </a:p>
        </p:txBody>
      </p:sp>
      <p:sp>
        <p:nvSpPr>
          <p:cNvPr id="105" name="PlaceHolder 2"/>
          <p:cNvSpPr>
            <a:spLocks noGrp="1"/>
          </p:cNvSpPr>
          <p:nvPr>
            <p:ph/>
          </p:nvPr>
        </p:nvSpPr>
        <p:spPr>
          <a:xfrm>
            <a:off x="4876920" y="151920"/>
            <a:ext cx="4038480" cy="67057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lifornia Indians were hunters and gatherers. They gathered nuts, seeds, berries, roots, bulbs, and tubers. Deer, rabbits, and game birds provided meat for these Indians. Fish and acorns also provided food the these Indians. All of the California Indians were basket makers, but no tribe was as accomplished in this as the Pomos. They made baskets as large as 3 feet wide and as small as a thimble. Some of their baskets were covered with shells, others with feathers. They not only wove baskets, but hats, trays, cooking pots, boats, and baby carri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6" name="Picture 6" descr="C:\Documents and Settings\Administrator\My Documents\My Pictures\Native Amer ppt\day2\thatchwiki.gif"/>
          <p:cNvPicPr/>
          <p:nvPr/>
        </p:nvPicPr>
        <p:blipFill>
          <a:blip r:embed="rId1"/>
          <a:stretch/>
        </p:blipFill>
        <p:spPr>
          <a:xfrm>
            <a:off x="1371600" y="1905120"/>
            <a:ext cx="3733920" cy="2241360"/>
          </a:xfrm>
          <a:prstGeom prst="rect">
            <a:avLst/>
          </a:prstGeom>
          <a:ln w="0">
            <a:noFill/>
          </a:ln>
        </p:spPr>
      </p:pic>
      <p:pic>
        <p:nvPicPr>
          <p:cNvPr id="107" name="Picture 7" descr="C:\Documents and Settings\Administrator\My Documents\My Pictures\Native Amer ppt\day2\Acrnbo1.jpg"/>
          <p:cNvPicPr/>
          <p:nvPr/>
        </p:nvPicPr>
        <p:blipFill>
          <a:blip r:embed="rId2"/>
          <a:stretch/>
        </p:blipFill>
        <p:spPr>
          <a:xfrm>
            <a:off x="2209680" y="4290840"/>
            <a:ext cx="289584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866920" y="2742840"/>
            <a:ext cx="3048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uthwest Traditions</a:t>
            </a:r>
            <a:endParaRPr b="0" lang="en-US" sz="4400" spc="-1" strike="noStrike">
              <a:solidFill>
                <a:srgbClr val="996600"/>
              </a:solidFill>
              <a:latin typeface="Times New Roman"/>
            </a:endParaRPr>
          </a:p>
        </p:txBody>
      </p:sp>
      <p:sp>
        <p:nvSpPr>
          <p:cNvPr id="109" name="PlaceHolder 2"/>
          <p:cNvSpPr>
            <a:spLocks noGrp="1"/>
          </p:cNvSpPr>
          <p:nvPr>
            <p:ph/>
          </p:nvPr>
        </p:nvSpPr>
        <p:spPr>
          <a:xfrm>
            <a:off x="1371600" y="228600"/>
            <a:ext cx="457200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sazi men went to a special room for religious ceremonies. This special room was called a </a:t>
            </a:r>
            <a:r>
              <a:rPr b="1" lang="en-US" sz="2000" spc="-1" strike="noStrike" u="sng">
                <a:solidFill>
                  <a:srgbClr val="000000"/>
                </a:solidFill>
                <a:uFillTx/>
                <a:latin typeface="Arial"/>
              </a:rPr>
              <a:t>kiva. (keeva)</a:t>
            </a:r>
            <a:r>
              <a:rPr b="1" lang="en-US" sz="2000" spc="-1" strike="noStrike">
                <a:solidFill>
                  <a:srgbClr val="000000"/>
                </a:solidFill>
                <a:latin typeface="Arial"/>
              </a:rPr>
              <a:t> A kiva was a round room built underground at the base of the homes. Only men were allowed into the kiva. To get in and out the men had to go by ladder through the roof.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chinas were Hopi spirits or gods which lived within the mountains. Hopi dancers would dress like Kachinas to represent, or stand for, the gods. Wooden Kachina dolls were made to teach the children about the gods. Hopi Kachinas talked to the gods by singing and dancing. The Kachinas danced and sang for rain. </a:t>
            </a:r>
            <a:endParaRPr b="0" lang="en-US" sz="2000" spc="-1" strike="noStrike">
              <a:solidFill>
                <a:srgbClr val="000000"/>
              </a:solidFill>
              <a:latin typeface="Times New Roman"/>
            </a:endParaRPr>
          </a:p>
        </p:txBody>
      </p:sp>
      <p:pic>
        <p:nvPicPr>
          <p:cNvPr id="110" name="Picture 6" descr="C:\Documents and Settings\Administrator\My Documents\My Pictures\Native Amer ppt\day2\kachin1.jpg"/>
          <p:cNvPicPr/>
          <p:nvPr/>
        </p:nvPicPr>
        <p:blipFill>
          <a:blip r:embed="rId1"/>
          <a:stretch/>
        </p:blipFill>
        <p:spPr>
          <a:xfrm>
            <a:off x="5943600" y="228600"/>
            <a:ext cx="3048120" cy="2379600"/>
          </a:xfrm>
          <a:prstGeom prst="rect">
            <a:avLst/>
          </a:prstGeom>
          <a:ln w="0">
            <a:noFill/>
          </a:ln>
        </p:spPr>
      </p:pic>
      <p:pic>
        <p:nvPicPr>
          <p:cNvPr id="111" name="Picture 7" descr="C:\Documents and Settings\Administrator\My Documents\My Pictures\Native Amer ppt\day2\Kivas1.jpg"/>
          <p:cNvPicPr/>
          <p:nvPr/>
        </p:nvPicPr>
        <p:blipFill>
          <a:blip r:embed="rId2"/>
          <a:stretch/>
        </p:blipFill>
        <p:spPr>
          <a:xfrm>
            <a:off x="6172200" y="4114800"/>
            <a:ext cx="248904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2:30:11Z</dcterms:created>
  <dc:creator>pwn</dc:creator>
  <dc:description/>
  <dc:language>en-US</dc:language>
  <cp:lastModifiedBy>Anchorage School District</cp:lastModifiedBy>
  <dcterms:modified xsi:type="dcterms:W3CDTF">2010-06-14T17:23:47Z</dcterms:modified>
  <cp:revision>2</cp:revision>
  <dc:subject/>
  <dc:title>Native peoples of North America</dc:title>
</cp:coreProperties>
</file>